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75A-BD98-4B5E-A30C-6BFA580E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291-F801-463D-A889-F192E37A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7E5-E9B6-4407-9FEF-74378963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98D-42E0-46AA-B385-5A253385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E30-AD75-4805-B590-755C2054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F55B-2C1B-4234-87EB-6675BED5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2AE4-9F6E-4A48-ADBC-7672A790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9873-A717-4E7F-BE67-14272523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1902-210D-467B-8897-E338B5B1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F913-7A71-49C9-931B-6FFC3BFC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8B8C-9997-47BD-87EB-130B4565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F42-FD67-4698-9D1F-90159D7E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9AF1-4BB6-4BFF-AE16-14CE63C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224F-DC2F-43A2-94DF-A5EADA12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51B2-161D-4153-A04C-8970259D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99B6-8E94-4667-84CD-3E4DC6E2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09CA-03D8-4CD5-9569-8D83FA8E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6C8-EA72-474B-AFAD-10FE2415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0E0-9E42-4050-A2E5-EB504F22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4DC-9CC2-457D-AC4F-D559C9BD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F8E-E7C3-43B9-BBE0-1161FB63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130-307B-431D-8EB8-AAF7E41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CA6-0D0D-444C-AB1D-41A18CB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6E5-2867-49C0-823C-1700482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E69-56FD-48DB-999D-5501163A0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63ED-A966-4B13-92B0-9625D49AE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Lesson #5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Topic: 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Rotational – Tangential Motion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 using rotational kine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rotational iner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the formula for rotational inertia based upon kinetic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5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638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Rotational – Tangential Motion” due tomor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41972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will roll down a ramp faster, a hollow golf ball or a solid golf ball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angular momentum of a .21kg ball rotating at the end of a string in a circle of radius 1.1m at an angular speed of 10.4 rad / 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skater increases her rotation rate from 1 revolution every 2 seconds to 3 rev / s. Her initial rotational inertia was 4.6kg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Find her final rot inert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angular momentum of a skater spinning with her arms close to her body at 3.5 rev / s? Assume her to be a uniform cylinder with radius 15 cm and a mass of 55k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torque is required to stop the  same skater from spinning in 5 secon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76212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Lesson #4</a:t>
            </a:r>
            <a:br>
              <a:rPr sz="1800"/>
            </a:b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Topic: Describing Motion and Rotational Kinema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7652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relative mo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rotational motion using familiar kinema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ve problems involving angular displacement,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ty, and accel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114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fast are we mov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334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gular equation deri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ngular Kinematics Equations…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ame as linear equation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v  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a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t         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00200" y="2286000"/>
                <a:ext cx="589752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θ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v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ad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α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near to angul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20968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ple ratio connects linear equations to angular equation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/ r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chang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= change in arc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radius of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5720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ing the equations found in today’s notes, derive the equations 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 and a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2133720"/>
            <a:ext cx="1981080" cy="182880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048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2300400"/>
            <a:ext cx="60948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2840" y="281448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17524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175248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2362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104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960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explain Net tor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Newton’s laws in terms of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Net torqu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572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Lesson #6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Topic: Newton and Tor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6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4864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“Practice with rotation and torqu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do problem #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9880"/>
            <a:ext cx="8381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and then check your answer by setting up the experiment. A 151.5g meter stick is pivoting at the 30cm mark. There is a 271g mass hanging from the 10cm mark. At what cm mark should the 71g mass hang to make the meter stick balanc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wton’s (Rotational) Laws of 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rst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(Law of Inertia) An object at rest will remain at rest and an object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remain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consta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elocity unless acted on by an outsid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822960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ond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ne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ting on an object will caus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celeration in the same direction as the ne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i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ul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ion is directly proportional to the ne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ied and inversely proportional to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tational inert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object. 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Ι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wton’s Laws of 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ird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or ever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ied there must be a counter act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qual in magnitude and opposite in dir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429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Pedaling a bicycle. You exert a clockwise torque on the wheel and the wheel exerts an equal counter clockwise tor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876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…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then they cancel out and the net torque is zero…. But then how can I ride a bik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can I ride a bik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42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95288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looking at net torque, we only count the torque act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bject not don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3081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3352680"/>
            <a:ext cx="9907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3352680"/>
            <a:ext cx="83808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048120"/>
            <a:ext cx="175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oot on pe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124080" y="2514600"/>
            <a:ext cx="990720" cy="8380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5146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petal on fo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38560" y="3327480"/>
            <a:ext cx="838080" cy="6858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rque 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dder of length 2.0m and mass 1.0kg is leaning against the wall such that the ladder makes an angle of pi/3 with respect to the floor. With what horizontal force must I exert on the bottom of the ladder to prevent it from slipping and fall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no friction between the ladder and the wall or floo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1.05kg ball on the end of a string is rotated in a horizontal circle of radius 0.9m. Calculate the rotational inertia, and torque needed to maintain a constant angular velocity if air resistance exerts a force of .08N onto the b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rque 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get a flat uniform cylindrical satellite spinning at the correct rate, engineers fire four tangential rockets. If the satellite has a mass of 2600kg and a radius of 3m, what is the required steady force of each rocket if the satellite is to reach 30rpm in 5 m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114800"/>
            <a:ext cx="2666880" cy="2362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5867280" y="502884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2895120" y="510516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4343400" y="380952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86240" y="64771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66578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652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linear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conservation of angular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e problems involving angular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7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76212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Lesson #7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Topic: Angular Momen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334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inish practice problems and throw a Frisbe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114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What is the momentum of a 2 kg toy car traveling at 3m/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gular Momentu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 =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 =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*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w of conservation of angular momentu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he total angular momentum of a rotating body remains constant if the net torque acting on it is ze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6-09-06T20:03:22Z</dcterms:modified>
  <cp:revision>24</cp:revision>
  <dc:subject/>
  <dc:title>Lesson #1 8/29/06 </dc:title>
</cp:coreProperties>
</file>